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A28F-5EDF-49A2-B62C-61B680EEC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D405-1683-4AEB-83A0-D96CF7B9E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0798-BD4C-44C5-91A2-340568CEF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B29D-D629-4124-99A7-89AD9D1B5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9749-50C1-4A0C-A39E-1E57A3A29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87C2-A6DD-4E6B-82A7-C8BAC36F4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A959-EC80-4FD2-8166-34B5602A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8D57-1A4E-4BDB-9629-92F7368C8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11D7-9E71-474A-B3EB-30DD471AC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FDBE-A1AB-426C-8DE4-7D29CE5F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96DB-A8FB-408B-9DA0-3737918B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B7FE-2E3F-4B42-8EDC-8237100E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B61C2-8433-4CD0-8DB2-FA370E0A4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ff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263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ff"/>
                </a:solidFill>
                <a:latin typeface="Arial"/>
              </a:rPr>
              <a:t>ДИКИЕ ЖИВОТНЫЕ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Картинка 5 из 45240"/>
          <p:cNvPicPr/>
          <p:nvPr/>
        </p:nvPicPr>
        <p:blipFill>
          <a:blip r:embed="rId1"/>
          <a:stretch/>
        </p:blipFill>
        <p:spPr>
          <a:xfrm>
            <a:off x="395280" y="0"/>
            <a:ext cx="831708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042920" y="0"/>
            <a:ext cx="69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БЕЛОЧ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7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770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77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770" fill="hold"/>
                                        <p:tgtEl>
                                          <p:spTgt spid="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" dur="77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" dur="77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Картинка 10 из 452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08000" y="189000"/>
            <a:ext cx="54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ВОЛ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Картинка 14 из 452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0920" y="333360"/>
            <a:ext cx="381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БУРЫЙ МЕДВЕД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Картинка 34 из 452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189000"/>
            <a:ext cx="31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ЁЖИ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Картинка 39 из 452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115920"/>
            <a:ext cx="485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ЛИСИЧ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Картинка 56 из 452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08000" y="260280"/>
            <a:ext cx="30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ЗАЙЧИ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56360" y="476280"/>
            <a:ext cx="253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ЖИРА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9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9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06:22:23Z</dcterms:created>
  <dc:creator>студент</dc:creator>
  <dc:description/>
  <dc:language>en-US</dc:language>
  <cp:lastModifiedBy>студент</cp:lastModifiedBy>
  <dcterms:modified xsi:type="dcterms:W3CDTF">2012-04-17T06:54:57Z</dcterms:modified>
  <cp:revision>2</cp:revision>
  <dc:subject/>
  <dc:title>ДИКИЕ ЖИВОТНЫЕ</dc:title>
</cp:coreProperties>
</file>